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6CC-1E76-407C-8400-5373C345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024-B856-4A7D-84DF-C6EF6395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B12-9C7B-417B-BA07-CC41BDD1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62F-3E29-4A53-9CA9-20336271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83D-A7EF-427F-8805-C524B4DA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8CA-9478-497C-9C38-1EFF29E0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11C-5DB7-4C7D-9405-4F949DA4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6E8-1527-4EF7-8044-A56B2975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73B-D0A3-456A-821A-A596FAD1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435-CB4A-465E-8F45-AF53E7EE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222-F0CD-4481-8752-418F4899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96E-084E-4AB3-878B-CF1BB2D9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9523-4A0A-469C-A2D2-EB1C02CDB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4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4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48" name="Object 10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49" name="Line 11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2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5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5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58" name="Object 9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59" name="Line 10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6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6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68" name="Object 9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69" name="Line 10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7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7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78" name="Object 9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79" name="Line 10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1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8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8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88" name="Object 9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89" name="Line 10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1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9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9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98" name="Object 9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99" name="Line 10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8:36:54Z</dcterms:created>
  <dc:creator>ValeriaP</dc:creator>
  <dc:description/>
  <dc:language>en-US</dc:language>
  <cp:lastModifiedBy>Valeria</cp:lastModifiedBy>
  <cp:lastPrinted>1999-04-14T18:43:38Z</cp:lastPrinted>
  <dcterms:modified xsi:type="dcterms:W3CDTF">2008-04-24T15:56:04Z</dcterms:modified>
  <cp:revision>2</cp:revision>
  <dc:subject/>
  <dc:title>No Slide Title</dc:title>
</cp:coreProperties>
</file>